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50C2-3757-4518-8B10-D5BA44BA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 Credit:  © Frans Lanting/Minden Picture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presence of unlimited resources and in the absence of predation and disease, a population will grow exponentiall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th hypothetical graphs show the characteristic J-shape of exponential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shows the S-shaped curve of logistic growth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esources become less available, the population growth rate slows or stop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growth of this population has leveled off at its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737-1963-479A-B517-C9579A2D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2BF-78C3-4CA2-93A3-C81AD435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CB1-C13B-450E-9150-2135FE3C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CCF-BDE8-40FC-9C41-814E9C39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49E-6C1F-46CD-A216-36EB56A8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C199-84B5-41DC-931D-2F1C9BE2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9ED3-7FF6-41A7-9913-EF64A16D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A80B-690F-4CFA-8EF0-C530F478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4647-BC27-4D16-B22B-C71F0B3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FEE3-B6DB-4173-8EB7-25FCC69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CF2F-CF77-4F1D-8E52-936B8DAA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05A-CDD3-4A88-97EA-2F627AC3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547D-4CEB-44A8-B4EC-7C1729D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C554-EFE5-4730-882B-3444ACF2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E77-38F5-4452-B3A3-3AC45064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B8A1-B989-4782-AF34-F5E2CE71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2467-002A-4CBE-A146-A31FFFF7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9851-2CBB-4429-855C-645A198C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EA70-93FC-4483-8919-977E1468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4721-C56D-4375-A536-0EDBFF93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1583-AAFF-46F2-AAB4-5CFB3C9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9440-20BC-49EB-A3BA-66DABC3A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12A-6BAB-4493-9742-B640B6D2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1703-BD4F-4651-A5A2-B34CB4AA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0354-1FE8-4BAD-BE5F-6A1E871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D3AA-0C15-4CF5-AE51-E988551C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51C8-55AB-49E2-8C52-DD54D71A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6321-6E4E-4ABF-B50A-09B961F2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06D7-7D4D-4A30-834C-A961C48F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56DD-A022-4960-A0E0-E5EADC47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8703-D55F-46F3-B4BF-812C4093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0649-CBB0-45F6-836A-58B7687D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23B58-251B-463F-92A3-643AE927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7C8-5F11-4977-80E3-DB7B4D7F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19CB7-71DF-42E5-81C6-3578E7F7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F158-1A74-41CF-BC70-5435DFF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7D1F6-269A-48DF-A307-775D4CB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AA3C-1B49-47B4-8102-4AF0DA67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F2993-E9B6-43B4-B502-315BADDF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BB27C-4BFC-4A08-80F8-E47B415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57CB-75A1-433D-938C-D93C7268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DE8E-61AB-4A4A-AF28-C4953BC2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B7DE-2B99-4F5D-BEB5-44EEBF36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9693-653C-4CA0-A946-0685177B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F39-2E54-4323-A4E1-AB1859FA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4C9B-D94E-4EAF-959E-70DBF7DE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F7AF-75EC-4E89-9733-914DABFB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FBC10-32F6-4343-BF5A-C957FAD5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0E75-7586-4A81-8681-69E9D194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2C35-8CD8-4A75-BCD6-62F72C82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6888-B25C-49A8-8E98-351A6BB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6ADEB-4B9C-4FD3-A950-F6F6AA5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AAD0-49CA-4E9B-A239-5B1EA87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6793A-8062-4C54-AA6D-877262BB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26948-9ACD-434F-8F97-37DCE6B4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9FD-746C-42CF-9504-AEBECFB0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E525-3D64-41DE-8D8B-199A2F10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CB93A-A826-4BE2-86FD-3DD553E5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EE9CE-80A8-4D76-BDFF-BB99294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0054-E733-4A22-BE04-5B92CB09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6B8E-D807-403F-8227-88279BBD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013FD-E200-47D4-AF61-C71C0F59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653A0-CABF-4EF5-9381-9D1C902D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C030-326D-4DB8-B1CA-FAB99310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1BCE4-9334-4A3F-AA6F-03154048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E8C29-7E14-4EE0-99E7-A2D121BB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CBF-2D97-42CA-B4B5-B7A2F3F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9A91-B2C1-4909-B053-B73B1313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8F81-3D16-4C96-89BB-F9C6EF98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EF40-638C-411D-A4D4-04C1B330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E0C5F-603C-4890-B230-79330970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03693-010F-4E14-B6FD-3A5F6E47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F0D3-D05E-4F1F-9121-B7EAF235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B189-C4A7-47A2-80B2-CEECA4DC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0FFC0-6EFB-4C39-9FA3-B8DCDDD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F4A80-8A94-4206-A3DF-2E756DA5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4346B-9A25-492B-8233-54F17F4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C47-9FA8-4999-AFBB-5340D97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B7E5-1A75-4522-9463-B9A6B32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2F7B6-CBD2-49B2-956C-16A2CB2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ED0AF-AFEF-4739-983A-B05AE22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AE3E1-EC90-47BA-A1D1-E85E7F15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B96E-1408-4094-A9A9-E861F01B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2B3B-4955-4156-AB68-B496B803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CB141-8246-46B7-9662-2B3D69DC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77B4-9AE9-4B59-8DE3-C10B49E4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998B-FF79-4131-B676-A30FA5D2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E86F-B928-4CAF-A0C7-5A9D37F6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199-8BF6-432B-ACBF-DC8B722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184720" y="0"/>
            <a:ext cx="4076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89959-484D-4035-A332-A7159DC7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BF5A5-13A3-47D3-875E-C0B8B9D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69B67-F7C6-4904-A068-51DF92DB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F4E6-20D5-47B8-9ADC-2CC89030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272880" y="3627360"/>
            <a:ext cx="42991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5B8FA-A17D-48F3-9A29-7D73AAC7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2475720" y="109512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27288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75720" y="3627360"/>
            <a:ext cx="2097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87495-9365-4BDF-AA2F-E055850C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72656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180600" y="109512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27288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172656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3180600" y="3627360"/>
            <a:ext cx="138420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6CFE0-6598-41A3-A13C-8556CE26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827360" y="-360"/>
            <a:ext cx="7316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1" marL="157680">
              <a:spcAft>
                <a:spcPts val="2500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con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2" marL="220680">
              <a:spcAft>
                <a:spcPts val="2500"/>
              </a:spcAft>
              <a:buClr>
                <a:srgbClr val="000000"/>
              </a:buClr>
              <a:buFont typeface="Arial"/>
              <a:buChar char="●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Third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3" marL="283680" indent="283680">
              <a:spcAft>
                <a:spcPts val="2500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our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4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Fif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5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ix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  <a:p>
            <a:pPr lvl="6" marL="662400" indent="33120">
              <a:spcAft>
                <a:spcPts val="2500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Seventh Outline Level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160A-944C-4510-9B16-A2FFDB49DB1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title"/>
          </p:nvPr>
        </p:nvSpPr>
        <p:spPr>
          <a:xfrm>
            <a:off x="5181120" y="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28BE-45CD-4C07-9FC6-9725F6E0714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61524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794160" indent="-12060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5212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57120" indent="-11628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22440" y="2400480"/>
            <a:ext cx="672840" cy="434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5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6695-D443-40EA-9BD3-19945D79AF2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75760" indent="4320">
              <a:spcAft>
                <a:spcPts val="2001"/>
              </a:spcAft>
              <a:buClr>
                <a:srgbClr val="000000"/>
              </a:buClr>
              <a:buFont typeface="Arial"/>
              <a:buChar char="●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A848-3A1C-43EB-A2C4-1236FD6BBEC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512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1360" indent="-21744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849600" indent="-21276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01880" indent="28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01880" indent="28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01880" indent="28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116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9660-B36A-478F-BCBD-8480962B9D30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0980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83760">
              <a:spcAft>
                <a:spcPts val="2001"/>
              </a:spcAft>
              <a:buClr>
                <a:srgbClr val="000000"/>
              </a:buClr>
              <a:buFont typeface="Arial"/>
              <a:buChar char="●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877680" indent="-22248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202040" indent="288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75880" y="0"/>
            <a:ext cx="30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-1 How Populations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485604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ADB0-E892-415F-927E-0B7B850A029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43308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53136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165680" indent="-38844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89440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20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21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1028880" y="2919240"/>
            <a:ext cx="2757240" cy="5972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5446800" y="2730600"/>
            <a:ext cx="2211480" cy="8539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017960" y="2658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152360" y="2276640"/>
            <a:ext cx="23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86240" y="22734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Lau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B34-F1DD-4C5B-8A58-DF2CB93DB34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531360" indent="-648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015920" indent="-38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350440" indent="-123624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66040" indent="-51804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3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  <a:ea typeface="ＭＳ Ｐゴシック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4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0A2B-9FB8-4D1C-8B4C-7B953A66884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f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ser.com/watch_video.php?vid=240263" TargetMode="External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7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How Populations Grow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1268280" y="790560"/>
            <a:ext cx="6434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haracteristics of Population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262480" y="500040"/>
            <a:ext cx="3571920" cy="24289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57200" y="2155680"/>
            <a:ext cx="957240" cy="9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856800"/>
            <a:ext cx="514656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haracteristics of Populations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2999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important characteristi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population are 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spcAft>
                <a:spcPts val="75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spcAft>
                <a:spcPts val="75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spcAft>
                <a:spcPts val="75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0"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5927760" y="308124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213600" y="5423040"/>
            <a:ext cx="24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# / unit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2182680" y="4557600"/>
            <a:ext cx="33451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opulation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72880" y="514080"/>
            <a:ext cx="88711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299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opulation Growt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lnSpc>
                <a:spcPct val="80000"/>
              </a:lnSpc>
              <a:spcBef>
                <a:spcPts val="2500"/>
              </a:spcBef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factors can affect population size &amp; thus growth rates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ality (the number of birth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ality (the number of death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igration (the number of individuals that enter the populatio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7360" indent="-236520">
              <a:lnSpc>
                <a:spcPct val="80000"/>
              </a:lnSpc>
              <a:spcAft>
                <a:spcPts val="624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gration (number of individuals that leave the pop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0">
              <a:lnSpc>
                <a:spcPct val="80000"/>
              </a:lnSpc>
              <a:spcBef>
                <a:spcPts val="2500"/>
              </a:spcBef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an a population grow then?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a population decrease in siz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1480" indent="0">
              <a:lnSpc>
                <a:spcPct val="80000"/>
              </a:lnSpc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2308320"/>
            <a:ext cx="78408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22440" y="2200320"/>
            <a:ext cx="67284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Exponential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507" t="0" r="1897" b="5120"/>
          <a:stretch/>
        </p:blipFill>
        <p:spPr>
          <a:xfrm>
            <a:off x="128520" y="2367000"/>
            <a:ext cx="8242200" cy="37656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38240" y="2049480"/>
            <a:ext cx="8234280" cy="456480"/>
          </a:xfrm>
          <a:prstGeom prst="rect">
            <a:avLst/>
          </a:prstGeom>
          <a:solidFill>
            <a:srgbClr val="006d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onenti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0520" y="768240"/>
            <a:ext cx="8542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9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ideal conditions with unlimited resources, a population will grow exponentially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-Shaped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Logistic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4680" y="730080"/>
            <a:ext cx="8332920" cy="16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 growth is characterized by an S-shaped curve. What causes this type of grow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0" t="0" r="776" b="1638"/>
          <a:stretch/>
        </p:blipFill>
        <p:spPr>
          <a:xfrm>
            <a:off x="1434960" y="1523880"/>
            <a:ext cx="6355080" cy="5016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216400" y="2203560"/>
            <a:ext cx="2368800" cy="1100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252920" y="3179880"/>
            <a:ext cx="68580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813800" y="3740040"/>
            <a:ext cx="133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up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Limits to growth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54280" y="923760"/>
            <a:ext cx="558972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Dependent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 with the biome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unt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sus Density-Indepen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itat 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9120" y="5589720"/>
            <a:ext cx="862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ich type of populations more prone to density-dependent factors? Density –indepen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53880" y="1095480"/>
            <a:ext cx="30258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Predatory Prey cycles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1074600"/>
            <a:ext cx="4694400" cy="48340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572000" y="1300320"/>
            <a:ext cx="457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8472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0391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our animal populations are in d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urrent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things we are trying to do to  ensure survival of many of our spec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DUHSD</cp:lastModifiedBy>
  <dcterms:modified xsi:type="dcterms:W3CDTF">2008-05-30T21:17:44Z</dcterms:modified>
  <cp:revision>15</cp:revision>
  <dc:subject/>
  <dc:title>Biology</dc:title>
</cp:coreProperties>
</file>